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63E6-3F19-4B90-B0A9-981DD744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1080-6E1E-4B79-972C-48C49D52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6B2-3C41-42FF-B087-EC975366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E43-7BBC-484C-976B-4A04824D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5F78-CA69-4736-A445-5358DC38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BC60-7153-4F0C-A6CA-FB118BFC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25D2-BD13-4BB6-890C-B9448F99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060B-F2C6-48AB-BD1C-2C8DDCB0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2336-9E9F-48FC-94C0-57E32AAA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7B84-C087-4FDE-916C-9EFBF9B0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969-F6F1-4F12-97B5-3211961D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8144-8AB0-48DE-B87E-FB171123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6B09-E117-4B4F-B435-F768A7B24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3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LA CAS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: Jackson Horn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pis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piscina. Es grande y luj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3915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ampo de go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campo de golf. Es pequena y estupe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2567160"/>
            <a:ext cx="5791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CASA MANSION. ES MAGNIF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685800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gar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garaje. Es grande y luj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525780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B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B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ño. Es grande y nue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uarto de Depor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cuarto de deportes. Es estupendo y fabul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2457360"/>
            <a:ext cx="739152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uar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cuarto. Es lujoso y gr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bas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o. Es incrible y fabul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077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o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cocina. Es estupendo y mod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57913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p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patio. Es magnifico y gr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2313000"/>
            <a:ext cx="594360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22:03Z</dcterms:created>
  <dc:creator>hornungjac</dc:creator>
  <dc:description/>
  <dc:language>en-US</dc:language>
  <cp:lastModifiedBy>hornungjac</cp:lastModifiedBy>
  <dcterms:modified xsi:type="dcterms:W3CDTF">2013-04-04T15:58:19Z</dcterms:modified>
  <cp:revision>5</cp:revision>
  <dc:subject/>
  <dc:title>LA CASA</dc:title>
</cp:coreProperties>
</file>